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44E-3616-4454-9FA5-5E49E0A2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1BB-BF2A-497E-8788-46DB89E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687-8487-4F6D-A706-3BA17308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380-8882-4896-8235-CB1ED15B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7E7-7E46-45DC-80F0-FE8137F0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20A-9F8C-4E2E-94A1-B1AD8F1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09D-6CA0-4C58-A708-3C6B540B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631-8FB2-43B6-BF40-5F69D8B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874-3D87-4C83-B72F-D4156DF9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D30-9DF2-4F62-A43C-5400F31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2EE-9756-411A-A2D8-1C9FE5F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C31-5724-4972-8E4A-2E3ADF6D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069-7B1D-4A31-97B4-857973D4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1 de abril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QUIZ 3: UNID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ognados en in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ínto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l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y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b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pi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ntibi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¿Que te duele?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¿Tienes dolor 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s 015"/>
          <p:cNvPicPr/>
          <p:nvPr/>
        </p:nvPicPr>
        <p:blipFill>
          <a:blip r:embed="rId1"/>
          <a:stretch/>
        </p:blipFill>
        <p:spPr>
          <a:xfrm>
            <a:off x="533520" y="1828800"/>
            <a:ext cx="190476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ictures 026"/>
          <p:cNvPicPr/>
          <p:nvPr/>
        </p:nvPicPr>
        <p:blipFill>
          <a:blip r:embed="rId2"/>
          <a:stretch/>
        </p:blipFill>
        <p:spPr>
          <a:xfrm>
            <a:off x="3505320" y="1676520"/>
            <a:ext cx="16858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ictures 038"/>
          <p:cNvPicPr/>
          <p:nvPr/>
        </p:nvPicPr>
        <p:blipFill>
          <a:blip r:embed="rId3"/>
          <a:stretch/>
        </p:blipFill>
        <p:spPr>
          <a:xfrm>
            <a:off x="6553080" y="1676520"/>
            <a:ext cx="198144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ictures 029"/>
          <p:cNvPicPr/>
          <p:nvPr/>
        </p:nvPicPr>
        <p:blipFill>
          <a:blip r:embed="rId4"/>
          <a:stretch/>
        </p:blipFill>
        <p:spPr>
          <a:xfrm>
            <a:off x="5334120" y="4114800"/>
            <a:ext cx="136656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Pictures 004"/>
          <p:cNvPicPr/>
          <p:nvPr/>
        </p:nvPicPr>
        <p:blipFill>
          <a:blip r:embed="rId5"/>
          <a:stretch/>
        </p:blipFill>
        <p:spPr>
          <a:xfrm>
            <a:off x="1143000" y="4724280"/>
            <a:ext cx="1724040" cy="12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610560" y="121932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 hurts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27160" y="121932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 you have…p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538560" y="60199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80" y="40384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899800" y="342900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508200" y="380988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594720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580440" y="35812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56600" y="36576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86640" y="640080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4119120" y="60958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5414760" y="6400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1981080" cy="183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ictures 030"/>
          <p:cNvPicPr/>
          <p:nvPr/>
        </p:nvPicPr>
        <p:blipFill>
          <a:blip r:embed="rId2"/>
          <a:stretch/>
        </p:blipFill>
        <p:spPr>
          <a:xfrm>
            <a:off x="5334120" y="3860640"/>
            <a:ext cx="350496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ictures 003"/>
          <p:cNvPicPr/>
          <p:nvPr/>
        </p:nvPicPr>
        <p:blipFill>
          <a:blip r:embed="rId3"/>
          <a:stretch/>
        </p:blipFill>
        <p:spPr>
          <a:xfrm>
            <a:off x="6384960" y="380880"/>
            <a:ext cx="237816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ictures 035"/>
          <p:cNvPicPr/>
          <p:nvPr/>
        </p:nvPicPr>
        <p:blipFill>
          <a:blip r:embed="rId4"/>
          <a:stretch/>
        </p:blipFill>
        <p:spPr>
          <a:xfrm>
            <a:off x="228600" y="22860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ictures 023"/>
          <p:cNvPicPr/>
          <p:nvPr/>
        </p:nvPicPr>
        <p:blipFill>
          <a:blip r:embed="rId5"/>
          <a:stretch/>
        </p:blipFill>
        <p:spPr>
          <a:xfrm>
            <a:off x="609480" y="3733920"/>
            <a:ext cx="2870280" cy="2152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357120" y="25909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040" y="304812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465000" y="2286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204720" y="27432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309000" y="29718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063480" y="3352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746640" y="58672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00760" y="62485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337720" y="60199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todo 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338440" y="6400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30:57Z</dcterms:created>
  <dc:creator>Helen Zumaeta</dc:creator>
  <dc:description/>
  <dc:language>en-US</dc:language>
  <cp:lastModifiedBy>Helen Zumaeta</cp:lastModifiedBy>
  <dcterms:modified xsi:type="dcterms:W3CDTF">2013-04-08T19:02:42Z</dcterms:modified>
  <cp:revision>10</cp:revision>
  <dc:subject/>
  <dc:title>Me llamo _________ Clase 8IM La fecha es el 5 de mayo del 2011</dc:title>
</cp:coreProperties>
</file>